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C70A-E7EE-47ED-9D89-6B56841A4F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can write in pairs, helping each other, then display their writing to others. The class can decide which letter they like best, and pick out 2 errors each to corr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1CC2-7C1C-455E-B7AE-2FBAA54976CE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lesson should take 90 -100 min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B78C-CDCC-4EFA-B450-B019C993964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 or groups make lists and then comp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5167-8529-412C-9E2D-C19D7E57D44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: America’s most dangerous ex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C5D1-1030-41A9-AC63-17CA942368D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irs/groups disc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DBC9-0A4D-44FB-9707-5E391182F978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 1) c  2) e  3) b  4)  f  5)  a  6)  j  7) h  8) 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EDE3-9B4B-45EE-B20A-CB3DCAB8068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earners predict in pairs/smal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C642-36E9-4000-9165-FD1B5EF0294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icit the key words learners will need to scan for to find the answers and agree with them on an appropriate time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are true except (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762D-CC76-4E5F-8A6E-A079C928B99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swers: all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AB02-4A64-47A8-AC1D-228F4602BB1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4D1D-DB3C-4F7B-8A79-D5F45BE0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678C-582F-4430-8B70-278DE952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5E4-BA02-40AF-97FB-3514D80D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2E59-D19F-4A36-85B0-7BE308CA1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1148-055F-49BB-82CC-879BCE0F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5DE-C553-4CDA-98A5-74207E81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9A2-38A6-4D4F-9301-53FF94D0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B567-116D-4AC5-8C35-03842F968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A3CE-950E-425E-ACEF-94A415CE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A9A6-AE4D-45E4-8ED4-B2E18692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A00-A75F-446E-88F2-0B6DDF42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13F-DA85-4977-8F90-956DDFBC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B33A-857A-4455-8675-BA2D768534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int.org/blog/2014/08/22/america-obesity-export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ewiki.newint.org/index.php/America%27s_most_dangerous_expor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1698120"/>
            <a:ext cx="6696000" cy="37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5084640"/>
            <a:ext cx="7848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ew Internationalist Easier Engli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b050"/>
                </a:solidFill>
                <a:latin typeface="Calibri"/>
              </a:rPr>
              <a:t>Ready Intermediate Les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574120" cy="1487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1928880" y="1916280"/>
            <a:ext cx="5057640" cy="30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984807"/>
                </a:solidFill>
                <a:latin typeface="Calibri"/>
              </a:rPr>
              <a:t>Writing: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58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Write a letter to President Obama explaining what he should do about America’s export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020000" y="404640"/>
            <a:ext cx="163188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Now read the original artic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ewint.org/blog/2014/08/22/america-obesity-export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4508640" y="393840"/>
            <a:ext cx="38541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468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Today’s lesson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360"/>
            <a:ext cx="82915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Speaking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Vocabular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Reading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b050"/>
                </a:solidFill>
                <a:latin typeface="Calibri"/>
              </a:rPr>
              <a:t>Writing a lett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067360" y="260280"/>
            <a:ext cx="3610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632523"/>
                </a:solidFill>
                <a:latin typeface="Calibri"/>
              </a:rPr>
              <a:t>              </a:t>
            </a: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List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984807"/>
                </a:solidFill>
                <a:latin typeface="Calibri"/>
              </a:rPr>
              <a:t>Make a list of what you think the USA exports to other countrie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012000" y="309600"/>
            <a:ext cx="230508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46040" y="3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32523"/>
                </a:solidFill>
                <a:latin typeface="Calibri"/>
              </a:rPr>
              <a:t>                     </a:t>
            </a:r>
            <a:r>
              <a:rPr b="1" lang="en-GB" sz="4400" spc="-1" strike="noStrike">
                <a:solidFill>
                  <a:srgbClr val="984807"/>
                </a:solidFill>
                <a:latin typeface="Calibri"/>
              </a:rPr>
              <a:t>Headlin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372360" y="189000"/>
            <a:ext cx="2303280" cy="1377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460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Put the headline in the right order</a:t>
            </a:r>
            <a:r>
              <a:rPr b="0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984807"/>
                </a:solidFill>
                <a:latin typeface="Calibri"/>
              </a:rPr>
              <a:t>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export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  ‘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s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most          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America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                      </a:t>
            </a:r>
            <a:r>
              <a:rPr b="1" i="1" lang="en-GB" sz="4400" spc="-1" strike="noStrike">
                <a:solidFill>
                  <a:srgbClr val="00b050"/>
                </a:solidFill>
                <a:latin typeface="Calibri"/>
              </a:rPr>
              <a:t>danger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Discuss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at do you think are America’s dangerous exports?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Why are they dangerous</a:t>
            </a:r>
            <a:r>
              <a:rPr b="0" lang="en-GB" sz="5400" spc="-1" strike="noStrike">
                <a:solidFill>
                  <a:srgbClr val="984807"/>
                </a:solidFill>
                <a:latin typeface="Calibri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2014-08-25%20-obesity-blog.jpg"/>
          <p:cNvPicPr/>
          <p:nvPr/>
        </p:nvPicPr>
        <p:blipFill>
          <a:blip r:embed="rId1"/>
          <a:stretch/>
        </p:blipFill>
        <p:spPr>
          <a:xfrm>
            <a:off x="6443640" y="189000"/>
            <a:ext cx="23050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24000" y="188640"/>
            <a:ext cx="309564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632523"/>
                </a:solidFill>
                <a:latin typeface="Calibri"/>
              </a:rPr>
              <a:t>Match words and meaning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260280"/>
            <a:ext cx="5616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1) Illness – when blood pressure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2) It helps your body use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3) Describes someone who is very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4) Deep sleep – you cannot wake up the per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5) The health problem when people are overwe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6) Part of food which is good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7) Like crisps and popcor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b050"/>
                </a:solidFill>
                <a:latin typeface="Calibri"/>
              </a:rPr>
              <a:t>8) Illness – when  the body has a problem with su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16720" y="1844280"/>
            <a:ext cx="369720" cy="3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940000" y="1557000"/>
            <a:ext cx="309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a)  obe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b)  ob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c)  hyper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d) 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e)  insu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f)   co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h)  junk f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i)   nutri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84807"/>
                </a:solidFill>
                <a:latin typeface="Calibri"/>
              </a:rPr>
              <a:t>True or false? What do you think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1)The US spends about $150 billion a year on obesity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2) 70 per cent of  women and nearly 40 per cent of men in South Africa are overweight or obese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3) In Mexico soft drinks are often cheaper than bottled wat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4) The US government gives money to help sell junk food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5) The US government gives money to help sell fruit and vegetables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b050"/>
                </a:solidFill>
                <a:latin typeface="Calibri"/>
              </a:rPr>
              <a:t>6) More people in the world die from obesity than hunger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984807"/>
                </a:solidFill>
                <a:latin typeface="Calibri"/>
              </a:rPr>
              <a:t>7) More people die from junk food than from drugs</a:t>
            </a:r>
            <a:r>
              <a:rPr b="1" lang="en-GB" sz="3000" spc="-1" strike="noStrike">
                <a:solidFill>
                  <a:srgbClr val="984807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84807"/>
                </a:solidFill>
                <a:latin typeface="Calibri"/>
              </a:rPr>
              <a:t>Now read the text and check your ideas</a:t>
            </a:r>
            <a:r>
              <a:rPr b="1" lang="en-GB" sz="3200" spc="-1" strike="noStrike">
                <a:solidFill>
                  <a:srgbClr val="984807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4292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ewiki.newint.org/index.php/America%27s_most_dangerous_ex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5397480" y="2421000"/>
            <a:ext cx="3362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Read the text again – are these sentences</a:t>
            </a:r>
            <a:br>
              <a:rPr sz="2800"/>
            </a:br>
            <a:r>
              <a:rPr b="1" lang="en-GB" sz="2800" spc="-1" strike="noStrike">
                <a:solidFill>
                  <a:srgbClr val="984807"/>
                </a:solidFill>
                <a:latin typeface="Calibri"/>
              </a:rPr>
              <a:t> true or fal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9280" y="1267920"/>
            <a:ext cx="8785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Many countries do  not have enough money to help people with diabet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Taco Bell wants Americans to eat an extra meal every da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984807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984807"/>
                </a:solidFill>
                <a:latin typeface="Calibri"/>
              </a:rPr>
              <a:t>There are plans to sell more Coca Cola to the poorer people in South Africa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001"/>
              </a:spcBef>
              <a:buClr>
                <a:srgbClr val="00b05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b050"/>
                </a:solidFill>
                <a:latin typeface="Calibri"/>
              </a:rPr>
              <a:t>Obesity is America’s worst expor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251840" y="333360"/>
            <a:ext cx="163188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13:58:53Z</dcterms:created>
  <dc:creator>Linda Ruas</dc:creator>
  <dc:description/>
  <dc:language>en-US</dc:language>
  <cp:lastModifiedBy>Linda Ruas</cp:lastModifiedBy>
  <dcterms:modified xsi:type="dcterms:W3CDTF">2014-08-31T20:33:01Z</dcterms:modified>
  <cp:revision>63</cp:revision>
  <dc:subject/>
  <dc:title>PowerPoint Presentation</dc:title>
</cp:coreProperties>
</file>